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6B4-60ED-4C67-B185-C993E46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77F-A50A-4BA9-804C-FF2C796F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D32-AFF5-4B3F-B9CC-170260B2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64D-F6E4-4F86-82A5-77D50BDD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C9A-9B8B-4AFB-B992-87B77BFB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C52-965A-46FF-B08E-208FBB9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52F-B169-4172-A36C-4CC98B1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B48-C2F4-4EF7-B884-8C5DCB8D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15D-F2E9-4B22-A3B1-C551AA4B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8DC-2493-4942-9086-2E07CE1C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AE-D480-484F-888F-1E47C5E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97D-2B96-429A-BEEE-0033A6A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AE1-EF12-4087-B8D5-B90D1327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e Ideal Ga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al Gas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assumptions in the kinetic molecular theory that describe an ideal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molecules have zero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of attraction/repulsion are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ove in straigh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are completely 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t high pressure and low temperature there are problems with these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very small volumes there will be many more interactions and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umes of the gas molecules is now a significant fraction of the conta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28600" y="228600"/>
          <a:ext cx="8686800" cy="61866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ome cases (polar molecules), mild attractions exist between particles (volume is mildly decreas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ttractions exist between particles (no IMF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particles occupy spa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 particles have no volu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gases do condense at low temperature and high press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 gases will NOT condense into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” obey the gas law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y gas laws perfect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 RANDOM mo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on of particles is always in straight lin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2895480"/>
            <a:ext cx="8077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733920"/>
            <a:ext cx="83822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4800600"/>
            <a:ext cx="7467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38680"/>
            <a:ext cx="792504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Ideal Gas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219320"/>
            <a:ext cx="6934320" cy="5181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yle’s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  = 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’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 =  k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’s La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b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  V = 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kab X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R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1600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048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41911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6019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2590920"/>
            <a:ext cx="34290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3733920"/>
            <a:ext cx="34290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29528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648320"/>
            <a:ext cx="2286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715000"/>
            <a:ext cx="2286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638680"/>
            <a:ext cx="228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V= n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pressure (k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volume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amount (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emperature (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219320"/>
            <a:ext cx="4191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Analys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(kPa)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l)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8.314 k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L/m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4724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297180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3429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y The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ideal gas law to calculate the molar volume of a gas at S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ylinder of laughing gas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 has a diameter of 23.0 cm and a height of 140 cm. The pressure is 108 kPa at a temperature of 294 K. How many grams of laughing gas are in the cyli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ylyli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. 443-4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45 #3,4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48 #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15:21:28Z</dcterms:created>
  <dc:creator>OCDSB User</dc:creator>
  <dc:description/>
  <dc:language>en-US</dc:language>
  <cp:lastModifiedBy>OCDSB User</cp:lastModifiedBy>
  <dcterms:modified xsi:type="dcterms:W3CDTF">2011-06-02T15:52:40Z</dcterms:modified>
  <cp:revision>9</cp:revision>
  <dc:subject/>
  <dc:title>The Ideal Gas Law</dc:title>
</cp:coreProperties>
</file>